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55E0-A9BB-4B1C-9FD6-537A8514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B881-BCF7-490E-A2EC-DCFD2A72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178-11D3-4623-B441-2913A895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D2EB-482C-49E9-98B1-C1CBDA2A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E8F6-1722-4B89-8DAA-2BDD6E9F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6641-6DD8-48B6-BEBD-56AD59A6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CE9A-C8E4-4DCD-BBDA-A080EC90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E011-080D-42F4-BA5E-A5DCF45B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E26A-89C5-46AC-A981-2F1B5734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5747-D1D9-4E87-9AA3-F4DC2457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BF70-C457-47A1-8049-5A6F973B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F709-983E-41EE-8A89-5962A97A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94A4-1797-4CA8-9069-8707892C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B9DB-5E73-4500-8170-AA13E430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032D-8956-4E4A-B5CD-9FEFF686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661A-9343-4585-8F5E-35FCC623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45B6-C759-42EF-B38F-001C3794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E9D0B-451F-4864-B907-38B60874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CCD71-B70E-4DD4-B1BF-8604E7D9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ED240-C2C5-4F23-8BBD-7CCFDDE3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F3E66-39D1-45A4-9A73-FED75EF7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9768B-5A3E-4536-ADF5-3FE64A42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BCB-49ED-421F-AF0B-599CC6BD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0981E-DC5E-4395-92EE-50314B8C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4C637-1F2A-46DA-A5DE-08A9E561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32907-0FDC-4239-8223-61B00A76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91B01-2F6E-4D3F-8CEC-CD97FEC0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4E771-57E6-48C5-9AFF-CFC2DAF5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BE6A7-7D6B-4BDA-B089-BC38EFEE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CDC05-9109-4A64-940E-6EBE3F3E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D7102B-A873-46E3-BA1D-22428648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088E37-6A45-4E10-8832-59F5C0AD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A7FD3D-476C-49D3-BB80-83B8EE58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398-37D6-43BC-BF4D-812B0BF6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EF95C4-9B3F-4811-8832-EEEA86C1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AD98C7-48C7-4DD6-B74E-77A2437E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F4A5B4-8AEE-44F3-9CF6-46C76A91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72A120-CE3C-4F9E-88E1-F2FC3055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9F9537-C621-4807-B8F2-F4F3B331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073EBE-0E3E-498E-894B-169A825F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39BBB3-897A-4DDF-8D2A-0E88A491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B8628E-7BE7-4EAF-99E3-E5EF7E79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E014EF-D6D1-443F-8044-951D3638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DBBA1-621A-47AF-9265-CAE896F3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24AE-CEDF-4E30-A22D-5B93DCEA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4B4AB-F78E-43B2-A35A-11F90D6B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84FAE-B72C-4B26-8664-34618C8F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EE537-FC3F-428D-854C-33139257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0010F-AA8E-4590-8C47-F814E816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FD777-01C9-4F57-BABD-D936E71E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C3ADF-F7B9-4797-B8DD-B4B9D817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C51AF-5ADB-4554-9E23-88169CE7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940D6-619E-4DF6-9675-D67F557D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DE5B3-9F66-4650-B432-A8C2CC06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329F2-4F0C-4557-A08D-B11B87A9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4A5-B257-4237-B343-AB5885A1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74E39-8DAC-45A7-886D-6DC36195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65BE6-6735-4114-AF59-E1037B57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A1A97-26F9-43AC-A1C8-DBADB28C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FB787-6F50-48F5-81AD-89BF017E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C2F36-0E27-4733-9705-CC066448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67F45-00C7-4474-83C3-327C0717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1EE65-5A23-4FBA-8842-6DEA1A0A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FD5E3-8AED-4B1E-A58D-C46214E3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F1995-DE12-4791-8FFF-C4896842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030A3-721B-4DB8-BC1C-C3A325AA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873A-F2F5-42DC-87DA-0F9710CC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61384-086F-405F-9244-B0BCB15E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88B50-6790-4729-80F5-BC9DB5B5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1EAC1-0945-4AF7-9EF2-AA8DFF48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9A740-F33B-4C40-BF70-7FD90D5C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88122-274C-48EF-93D8-3318EBB9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65FA4-587D-4C67-9B08-85305A3D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ED4F7-2F31-4251-BB90-3FDF6E25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70F0C-DE59-4E52-ADD9-EE6A7645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C9F67-8E85-45E3-8D19-48B50A17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2B763-99F1-42D2-855F-490FF900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B183-8D83-4974-9194-2DF8750F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60C1C-674C-450C-B659-7EB79A14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1091C-59AF-43A0-A5AB-942262E9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E0C27-7B90-4F4F-B29A-38470AB8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1C7AD-6E0F-4C8C-8213-9619F496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10DB4-7660-4038-9CAC-B5A9C7F6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E7B-F526-4D33-843F-D23D1C85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73.xml"/><Relationship Id="rId32" Type="http://schemas.openxmlformats.org/officeDocument/2006/relationships/slideLayout" Target="../slideLayouts/slideLayout74.xml"/><Relationship Id="rId33" Type="http://schemas.openxmlformats.org/officeDocument/2006/relationships/slideLayout" Target="../slideLayouts/slideLayout75.xml"/><Relationship Id="rId34" Type="http://schemas.openxmlformats.org/officeDocument/2006/relationships/slideLayout" Target="../slideLayouts/slideLayout76.xml"/><Relationship Id="rId35" Type="http://schemas.openxmlformats.org/officeDocument/2006/relationships/slideLayout" Target="../slideLayouts/slideLayout77.xml"/><Relationship Id="rId36" Type="http://schemas.openxmlformats.org/officeDocument/2006/relationships/slideLayout" Target="../slideLayouts/slideLayout78.xml"/><Relationship Id="rId37" Type="http://schemas.openxmlformats.org/officeDocument/2006/relationships/slideLayout" Target="../slideLayouts/slideLayout79.xml"/><Relationship Id="rId38" Type="http://schemas.openxmlformats.org/officeDocument/2006/relationships/slideLayout" Target="../slideLayouts/slideLayout80.xml"/><Relationship Id="rId39" Type="http://schemas.openxmlformats.org/officeDocument/2006/relationships/slideLayout" Target="../slideLayouts/slideLayout81.xml"/><Relationship Id="rId40" Type="http://schemas.openxmlformats.org/officeDocument/2006/relationships/slideLayout" Target="../slideLayouts/slideLayout82.xml"/><Relationship Id="rId41" Type="http://schemas.openxmlformats.org/officeDocument/2006/relationships/slideLayout" Target="../slideLayouts/slideLayout83.xml"/><Relationship Id="rId42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8AC0-CC5D-4F55-915A-86A643A5B29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D977-A79C-48D4-A84D-35B890F2312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ccffff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DC5C-D8E1-42B5-B033-0C32FB717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5C35-6B39-43D8-8065-C4D5E83625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398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41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AC52-283E-49D7-BDBE-70F8AAAC10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454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0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1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2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4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15F2-7B14-4C20-A9FF-15FF8006A85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0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AC02-DC3B-4ABB-A83E-01887EDB01B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1"/>
    <p:sldLayoutId id="2147483728" r:id="rId32"/>
    <p:sldLayoutId id="2147483729" r:id="rId33"/>
    <p:sldLayoutId id="2147483730" r:id="rId34"/>
    <p:sldLayoutId id="2147483731" r:id="rId35"/>
    <p:sldLayoutId id="2147483732" r:id="rId36"/>
    <p:sldLayoutId id="2147483733" r:id="rId37"/>
    <p:sldLayoutId id="2147483734" r:id="rId38"/>
    <p:sldLayoutId id="2147483735" r:id="rId39"/>
    <p:sldLayoutId id="2147483736" r:id="rId40"/>
    <p:sldLayoutId id="2147483737" r:id="rId41"/>
    <p:sldLayoutId id="2147483738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228600" y="304920"/>
            <a:ext cx="53341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Ancient Egyptian</a:t>
            </a:r>
            <a:endParaRPr b="1" lang="en-US" sz="28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 </a:t>
            </a:r>
            <a:r>
              <a:rPr b="1" lang="en-US" sz="28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Science </a:t>
            </a:r>
            <a:endParaRPr b="1" lang="en-US" sz="28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and Medicine</a:t>
            </a:r>
            <a:endParaRPr b="1" lang="en-US" sz="28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4952880"/>
            <a:ext cx="2933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By: Emily Ehrlich,</a:t>
            </a:r>
            <a:endParaRPr b="1" lang="en-US" sz="24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Sara Baran, </a:t>
            </a:r>
            <a:endParaRPr b="1" lang="en-US" sz="24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and Gabbi Stobb</a:t>
            </a:r>
            <a:endParaRPr b="1" lang="en-US" sz="24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 Narrow"/>
              </a:rPr>
              <a:t>Introdu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On top of the Ancient Egyptians’ developments in writing, they made advances in fields of astronomy, mathematics, and med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mong citizens of the ancient world, Egypt was known as a land of great and highly valued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empus Sans ITC"/>
              </a:rPr>
              <a:t>Keeping Track of Tim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Since the Egyptians were agricultural people, they had to be capable of predicting when the Nile River would fl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Astronomers, scientists who study stars and other objects in the sky, noticed that the Nile began to rise rapidly at about the same time that they were able to see Siri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Sirius, otherwise known as the dog star, could be seen in the sky shortly before sunr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Astronomers worked out the approximate time between the appearances of Siriu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They found that it came to approximately three hundred sixty-five days, so it became the length of their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urlz MT"/>
              </a:rPr>
              <a:t>Mathematic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The Egyptians used basic mathematics in finding solutions to conflicts they faced every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They could add, subtract, multiply, and div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The Egyptians utilized simple fractions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Math helped them measure stone in order for it to be cut to the proper size to build pyram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Geometry was used to measure area so the Egyptians could figure out the quantity of taxes for a plot of land.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Arial"/>
              </a:rPr>
              <a:t>Medicine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Religion and medicine went hand in hand in ancient Egypt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Doctors were specially trained priests that used religious practices and their knowledge of diseases to attempt to heal the ill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Supposedly, because of their work on  mummies, the ancient Egyptians knew a great deal of information about the bod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By studying the human body, they learned how to give surgery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The set broken bones, and treated many slight injuri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radley Hand ITC"/>
              </a:rPr>
              <a:t>Medicine (continued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e Egyptians understood the concept of herbal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Herbalism is the practice of composing medicines from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e natural remedies were used to help ease common, everyday sicknesses such as headaches and stomachach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At home, mothers prepared their own remedies, or cures, to reduce their children’s fe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e Egyptians wrote a lot of their medical knowledge down on papyrus, which the ancient Greeks and Romans used centuries later.  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7:56:51Z</dcterms:created>
  <dc:creator>William Ehrlich</dc:creator>
  <dc:description/>
  <dc:language>en-US</dc:language>
  <cp:lastModifiedBy>William Ehrlich</cp:lastModifiedBy>
  <dcterms:modified xsi:type="dcterms:W3CDTF">2009-01-12T01:45:11Z</dcterms:modified>
  <cp:revision>10</cp:revision>
  <dc:subject/>
  <dc:title>Slide 1</dc:title>
</cp:coreProperties>
</file>